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FBF2-8A62-4ED9-A9C3-8EFC1B1D4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74C1-1286-4F63-AFFC-8B0D1CDA6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FF21-9222-4964-8B55-4CC43A00F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C312-1551-48BB-80AE-23F70551E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D6B6-BD55-4F78-9200-8812BE2BA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4239-0572-4F45-9E7E-D4F172830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EFC6-FF03-489F-A20B-41B776E6F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F049-EEFB-40CA-966E-A98B7F1D9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D14E-91D2-4071-AFCB-D338C9CB9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514D-1ADD-4962-A032-983CBFB5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DA31-90A7-442E-8A2B-E2A7CFCC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76F2-A7B9-46BD-A050-C3E5847E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53008-BDFE-42DB-8BEA-04936B59B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26920" y="189000"/>
            <a:ext cx="806616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ORROTOA,ODOLA ETA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ALKOAK.HERIOTZATIK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HESI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79280" y="404640"/>
            <a:ext cx="89647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Jazarpen eta halakoen ondorioz nora ihes egin zuten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258920" y="549360"/>
            <a:ext cx="705636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ZEIN IZAN ZEN GERRAREN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RRAZOIA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268360" y="549360"/>
            <a:ext cx="472464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Nork irabazi zuen gerrak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627280" y="549360"/>
            <a:ext cx="367668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erraren ondorioak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268360" y="549360"/>
            <a:ext cx="468648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Nortzuk borrokatu zuten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700360" y="620640"/>
            <a:ext cx="40003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Zer da gerra zibil bat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124000" y="549360"/>
            <a:ext cx="484848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Zenbat iraun zuen gerrak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4360" y="476280"/>
            <a:ext cx="77342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Zein izan zen emakumeen papera gerran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755640" y="476280"/>
            <a:ext cx="79056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alde bakoitzean zer alde politiko zeuden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0T12:58:41Z</dcterms:created>
  <dc:creator>ik015111zz</dc:creator>
  <dc:description/>
  <dc:language>en-US</dc:language>
  <cp:lastModifiedBy>ik015111zz</cp:lastModifiedBy>
  <dcterms:modified xsi:type="dcterms:W3CDTF">2012-05-10T13:13:41Z</dcterms:modified>
  <cp:revision>2</cp:revision>
  <dc:subject/>
  <dc:title>Diapositiva 1</dc:title>
</cp:coreProperties>
</file>